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4D3-E104-470B-9D17-18C672CA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352-1091-407D-AFDC-994D30B5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BDA0-6642-4573-ACCE-3B757581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D59-CFDA-4EEE-ABA4-4E866E9B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4528-21E7-4A7A-871C-288F5378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9B8E-9BE4-407F-8181-057036B7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E90A-DEF1-42E2-8CA1-622906E7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4996-E900-4621-B76A-39126C75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77FC-15AE-4804-BF54-98A5B3D0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9CC9-545A-4B79-A704-CF48D1CB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1653-C2F3-48E9-98F8-2C2B333B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E952-637C-4C26-BB76-B0154761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8860-A3AD-40D7-90D5-7DD32584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516A-F506-4928-887B-CCB6C0F6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5552-4DF0-46C5-B7AF-1059A8BC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B513-9657-4475-8BEE-0115362E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CE94-E8D7-407F-9E6F-00E096E9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CA30B-D3AD-4101-900E-BA0130E1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D77B4-ABFF-4E17-9C23-A2E6199E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B8690-CA27-462E-8066-CD1C76CB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0CCC0-972E-45A1-8759-EC9596EE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858EF-7837-4756-BD7D-EC3E095E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4FAE-F8A9-4230-AED6-5B1619CE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5746A-57BB-4DA9-B23E-4EA1A6B9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52474-81D0-4207-A731-3D1E79AF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1B4A8-8EF1-4E0E-8741-D6AA2483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C0256-DE9E-49F6-8131-E8F7985F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48D42-40C5-4923-BBF3-1A13BA96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D3D95-4574-42F4-8E44-DC713F6B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2E7DA-054B-459C-AA0C-648B7ED3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5CED0-991C-493D-8D83-CD04EFCE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79703-BD2B-4B97-B267-89936AEE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E8BC7-A01D-4D45-9708-84A6E4AF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D6E-1DCB-49D5-8618-93DC2642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46A72-3C8E-402D-A16B-B24B648E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7A302-3E8A-4EF7-BC22-2F4FA5C4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DD53A-F372-4110-ADF9-0C2D72EA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08205-161E-47D1-919F-358E8C61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41D0F-B9BB-4D0A-960D-1C568C3B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F9E84-B7C9-46F4-942A-AD761C21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7DD85-2E8E-45A8-B9F6-24E4E4D6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C19D5-1E69-42CF-B5C8-1D471AA0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07B5C-F6DF-47AD-AE24-FD89AA7E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1C1-FA96-4D2B-BBA0-45284C9E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6210-80D9-4C7C-9CAC-6F8ED828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2AB-9542-4CDD-B727-D9D68415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6CB-BE91-418D-A38F-4A57C92E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C199-22E6-4403-AA42-01EE9CE6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6DB0-9FF9-43A2-866D-E837FFA8A35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0F8D-4070-47D0-915B-D76D03E7D28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3EC5-FAF5-4DB0-9535-FB35CBD2984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9FD3-D265-4FF8-8B13-45F080E52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DADES TEX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AMBIO DE MENS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TE SIG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 DOS O MÁS S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UNA INTENCIÓN DETERMI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RMAS DE COMUN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MUNICACIÓN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DIANTE SIGNOS LINGÜÍST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AL : DIÁLOGO, TERTULIA, DEBAT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A: CARTA, DIARIO, NOTA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EDIANTE SIGNOS NO LINGÜÍST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ISUALES: DIBUJO, SÍMBOLO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STUALES: ABRAZO, MIRADA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DITIVOS: TIMBRE, APLAUSOS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LEMENTOS DEL PROCESO COMUNICA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MISOR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MIT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CEPTOR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CI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MENSAJE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NAL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O POR EL QUE SE TRANSM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ATURAL: SENT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RTIFICIAL: TELÉFONO, TELEVISOR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ÓDIG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JUNTO DE SIGNOS, CON UNAS REG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OCIDAS  POR EMISOR Y RECEP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NTEXTO O SITUACIÓN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RCUNSTA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PACIO, TIEMPO, CULTURA,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2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20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2000"/>
                                        <p:tgtEl>
                                          <p:spTgt spid="1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UNCIONES DEL LENGUA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1413000"/>
          <a:ext cx="8640720" cy="5379840"/>
        </p:xfrm>
        <a:graphic>
          <a:graphicData uri="http://schemas.openxmlformats.org/drawingml/2006/table">
            <a:tbl>
              <a:tblPr/>
              <a:tblGrid>
                <a:gridCol w="3095640"/>
                <a:gridCol w="2376360"/>
                <a:gridCol w="3168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UN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LE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JEMP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 SOBRE LA RE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S DEL REL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ULAR PERIÓD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 DE ÁNIMO DEL QUE EM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MENS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OS DE ALEGRÍA, TRISTEZA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AM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EL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TA AL RECEPTOR A RESPO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AJES PUBLICITARIOS, ORDEN, RU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ÁTICA O DE CONTA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ECE LA COMUN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BRE  TELÉFONO, FRASES DE SALUDO,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INGÜÍ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LA DEL PROPIO LENGU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QUIER LIBRO DE TEXTO DE LENG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É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ACA LA FORMA DEL LENGU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QUIER OBRA DE ARTE, JUEGOS DE PALAB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8:51:45Z</dcterms:created>
  <dc:creator>AUDIOLEASK</dc:creator>
  <dc:description/>
  <dc:language>en-US</dc:language>
  <cp:lastModifiedBy>AUDIOLEASK</cp:lastModifiedBy>
  <dcterms:modified xsi:type="dcterms:W3CDTF">2013-11-10T19:34:41Z</dcterms:modified>
  <cp:revision>3</cp:revision>
  <dc:subject/>
  <dc:title>Diapositiva 1</dc:title>
</cp:coreProperties>
</file>